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7C0-D137-4409-84E0-40CEB4D9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2C4-3AA2-464C-80DE-A94FFCD4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B39-D606-4456-9BEE-1A2C06C8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329-0E22-421F-AAE3-E4549A8B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A0D-12AF-4A37-832E-D521FA76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F85-778C-4849-A59D-FE7BAFA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52D-17AA-4F58-89B0-76600340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2B7-1D05-492A-A2F5-7AE06421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BA5-72E1-4A9F-9289-47B7266A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D5E-9429-4EAD-82C3-EB0939E6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49B-762D-4AEE-A344-D316D1EB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7B6-8ED3-413D-B049-84D34F45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926-5768-4F2A-86F9-FCD08D951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399" r="9581" b="6797"/>
          <a:stretch/>
        </p:blipFill>
        <p:spPr>
          <a:xfrm>
            <a:off x="2178000" y="457200"/>
            <a:ext cx="476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167"/>
          <a:stretch/>
        </p:blipFill>
        <p:spPr>
          <a:xfrm>
            <a:off x="2062080" y="457200"/>
            <a:ext cx="4834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887"/>
          <a:stretch/>
        </p:blipFill>
        <p:spPr>
          <a:xfrm>
            <a:off x="1838160" y="304920"/>
            <a:ext cx="525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2:56:13Z</dcterms:created>
  <dc:creator>Patrick J. Mooney</dc:creator>
  <dc:description/>
  <dc:language>en-US</dc:language>
  <cp:lastModifiedBy>Patrick J. Mooney</cp:lastModifiedBy>
  <dcterms:modified xsi:type="dcterms:W3CDTF">2011-04-19T03:05:23Z</dcterms:modified>
  <cp:revision>2</cp:revision>
  <dc:subject/>
  <dc:title>Slide 1</dc:title>
</cp:coreProperties>
</file>